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3AF-71EE-4831-8832-FB815257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62C-96EE-46C9-BC25-18CFBF3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837-A5F7-41AE-9F49-EF64EA42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5E7-A982-4E39-99AD-F04D0BBE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2FD-3FBA-424E-A676-22A0B365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3BF9-8FCD-49EB-950B-E928D5BB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D2A-EB3F-4F19-871F-D5FCDD4C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8770-B05E-44A4-BFC5-FE99CD3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63EA-F2F2-4643-8DF6-8D69749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ED9-1875-4AFD-95B6-D5E18D5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6D17-1DD3-4666-B108-3211D5F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465-4F67-4EC4-A9A6-D239F26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875-F00D-4BC0-B6A0-A22ACBC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436-9771-4A98-9280-E9862A76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522D-812B-470E-BD69-BECE89F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44A6-64C1-4F7F-8C2E-18F3F0BC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BD54-E769-4E63-80DC-EC3A8105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674-A2D3-469A-B7F2-BAD2966F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A79-FCCC-4D23-B293-67F97953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B41-7676-4862-BC22-7BD13EB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D37-8C70-4A36-B017-4B6AC70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BDE-6CFD-4A9C-A4E2-46BBC44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91D-67C5-46CC-9138-D587C1D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21D-C8B4-49A1-90E8-C3CC14D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798-99FF-454A-8178-421DE77471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EA35-FD5E-4931-B5B3-FDABD20EFF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ransfusion.r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7720"/>
            <a:ext cx="86104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fd3b"/>
                </a:solidFill>
                <a:latin typeface="Arial Black"/>
              </a:rPr>
              <a:t>МИНЗДРАВ РОССИИ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4fd3b"/>
                </a:solidFill>
                <a:latin typeface="Arial Black"/>
              </a:rPr>
              <a:t>Совершенствование производственной и клинической деятельности службы кров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российское совещ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5-16 сентября 2003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оры и донаци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оры крови              20970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оры плазмы           177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ации крови             29040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ации плазмы          7597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го донаций     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366376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оры и донаци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го донаций     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366376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з учета федеральных учреждений и предприятий, РАМН, Минобороны, МПС, МВД, ФСБ и т.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сад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оры и донаци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ации              36637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селение          144,6 мл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сь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нации              75 мл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селение          6,2 млр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ации (на 1000 жителей)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ссия             25,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сь мир         12,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ния               67,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ША                 67,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ляндия     61,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встрия           57,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еция             5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ации (на 1000 жителей)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юксембур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рмания             52,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вец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2,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0,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льгия                50,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42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ранция               38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Донации (на 1000 жителей)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рланд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7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а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6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тал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5,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9,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ран              21,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хрейн        20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гипет           11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итай             6,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19720" y="3733920"/>
            <a:ext cx="4038480" cy="838080"/>
          </a:xfrm>
          <a:prstGeom prst="leftArrow">
            <a:avLst>
              <a:gd name="adj1" fmla="val 50000"/>
              <a:gd name="adj2" fmla="val 12046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133280"/>
            <a:ext cx="9144000" cy="36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от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6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юл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я 200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 организации лицензирования медицинской деятельност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                       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  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Лицензирование</a:t>
            </a:r>
            <a:br>
              <a:rPr sz="24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Работы и услуги по специальности трансфузиологи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2.011 - скор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3.040 - амбулаторн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5.040 - стационарн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lngerd" descr=""/>
          <p:cNvPicPr/>
          <p:nvPr/>
        </p:nvPicPr>
        <p:blipFill>
          <a:blip r:embed="rId4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5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Лицензирова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6.017 – работы и услуги по заготовке, производству, транспортировке и хранению донорской крови, ее компонентов и препарат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6.018 - работы и услуги по оказанию скорой трансфузиологической помо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08040"/>
            <a:ext cx="91440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fd3b"/>
                </a:solidFill>
                <a:latin typeface="Arial Black"/>
              </a:rPr>
              <a:t>Итоги работы по совершенствованию деятельности службы крови и задачи на предстоящий год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5028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ибурт Евгений Борис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ентр крови Минздрава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каз Минздрава России от 8 октября 2002 г. № 298 «О создании Центра крови Министерства здравоохранения Российской Федерац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  <p:pic>
        <p:nvPicPr>
          <p:cNvPr id="201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ганизационно-методическое руководство и практическая помощь органам управления здравоохранением субъектов Российской Федерации по вопросам организации службы кро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работка прогрессивных форм и методов организации службы крови, технологий производства и применения препаратов и компонентов крови, их внедрение в практическое здравоохра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ведение научно-исследовательских работ в области службы крови, апробация и проведение испытаний новой медицинской тех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готовка и усовершенствование кадров для учреждений службы кр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 крови Минздрава Ро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еспечение гемотрансфузионными средами учреждений Минздрава Ро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я донорства и заготовки крови и ее компон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Центр крови</a:t>
            </a:r>
            <a:r>
              <a:rPr b="1" lang="ru-RU" sz="4000" spc="-1" strike="noStrike">
                <a:solidFill>
                  <a:srgbClr val="f21302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инздрава России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23182, Моск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ул. Щукинская, 6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Тел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095) 190 7555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Факс: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095)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942 47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ww.transfusion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1920960" y="1303200"/>
            <a:ext cx="5303880" cy="4251240"/>
            <a:chOff x="1920960" y="1303200"/>
            <a:chExt cx="5303880" cy="4251240"/>
          </a:xfrm>
        </p:grpSpPr>
        <p:sp>
          <p:nvSpPr>
            <p:cNvPr id="223" name=""/>
            <p:cNvSpPr/>
            <p:nvPr/>
          </p:nvSpPr>
          <p:spPr>
            <a:xfrm>
              <a:off x="1920960" y="1303200"/>
              <a:ext cx="5303880" cy="42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0960" y="1303200"/>
              <a:ext cx="530388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13200" spc="-1" strike="noStrike">
                  <a:solidFill>
                    <a:srgbClr val="0000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03" descr=""/>
          <p:cNvPicPr/>
          <p:nvPr/>
        </p:nvPicPr>
        <p:blipFill>
          <a:blip r:embed="rId2"/>
          <a:stretch/>
        </p:blipFill>
        <p:spPr>
          <a:xfrm>
            <a:off x="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нкетирова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тветившим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асибо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ар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25800"/>
            <a:ext cx="8534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оличество лицензиатов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 субъекте РФ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06.017 – 17,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05.035 – 61,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02.011 – 14,6 (от 0 до 59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03.040 – 3,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06.018 – 2,8 (от 0 до 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lngerd" descr=""/>
          <p:cNvPicPr/>
          <p:nvPr/>
        </p:nvPicPr>
        <p:blipFill>
          <a:blip r:embed="rId6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43080"/>
            <a:ext cx="8915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аличие единого донорского центра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убъекта РФ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Бумажный» – 13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лектронный – 33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лужба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отрасль здравоохранения, целью которой является обеспечение качества трансфузионной терапии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600120"/>
            <a:ext cx="8915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вязь лицензиатов 06.017 с ЕДЦ и регистром лиц, отведенных от донорства,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убъекта РФ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24 %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01340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ступ в Интерне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ыделенная линия – 12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елефонная линия – 46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01340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омпьтеризац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окальная сеть и штрих-код – 18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дельные АРМ – 86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01340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Регистр Почетных доноро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Бумажный» – 94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лектронный – 86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lngerd" descr=""/>
          <p:cNvPicPr/>
          <p:nvPr/>
        </p:nvPicPr>
        <p:blipFill>
          <a:blip r:embed="rId4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00"/>
                </a:solidFill>
                <a:latin typeface="Arial Black"/>
              </a:rPr>
              <a:t>06.017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Централ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ство компонентов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нение компонентов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запас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ансфузиологической помо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lngerd" descr=""/>
          <p:cNvPicPr/>
          <p:nvPr/>
        </p:nvPicPr>
        <p:blipFill>
          <a:blip r:embed="rId7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Если 15 ОПК сменить на 1 цент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я                               млн 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центрифуг                              7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быстрозамораживателей      3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запаивателей                         0,9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го                                          12,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33760" y="6095520"/>
            <a:ext cx="3809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езопасность и эффективность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изводство компонентов – лицензия 06.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менение компонентов – лицензия 05.0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429000"/>
            <a:ext cx="485640" cy="914400"/>
          </a:xfrm>
          <a:prstGeom prst="upDownArrow">
            <a:avLst>
              <a:gd name="adj1" fmla="val 50000"/>
              <a:gd name="adj2" fmla="val 37483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03200"/>
            <a:ext cx="9144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Лицензионные требования и условия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екты документов по службе крови – на сай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www.transfusion.r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ансфузиология.- 2003.- Т.4, №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58464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99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от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октября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00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рядке представления гражданина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ссийской Федерации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 награждению нагрудным знаком «Почетный донор России» и его вручения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679400"/>
            <a:ext cx="91440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бурт Е.Б. Привилегии доноров крови: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ство для врачей и организаторов донорского движения.- М.: МедЭкспертПресс, 2003.- 392 с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лужба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реализации этой цели учреждения, подразделения и специалисты службы крови во взаимодействии с общественными организациями и медицинскими работниками организую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97760"/>
            <a:ext cx="9144000" cy="42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95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от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3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сентябр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я 200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 утверждении «Инструкции по проведению донорского прерывистого плазмафереза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308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ачество свежезамороженной плазмы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ритроциты – не более 6 млр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йкоциты – не более 0,1 млр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мбоциты – не более 50 млр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I: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е менее 0,7 МЕ/м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lngerd" descr=""/>
          <p:cNvPicPr/>
          <p:nvPr/>
        </p:nvPicPr>
        <p:blipFill>
          <a:blip r:embed="rId5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46296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193 от 7 мая 2003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внедрении в практику работы службы в Российской Федерации крови метода карантинизации свежезамороженной плазмы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96320"/>
            <a:ext cx="9144000" cy="55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арантинизация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СЗП</a:t>
            </a: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чение 180 суток хранят СЗП, полученную от доноров, обследованных в установленном порядке (на этапе внедрения метода допускается проведение карантинизации в течение 90 суток)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415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арантинизация 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СЗП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стечении этого срока проводят повторное обследование донора с определением клинических и лабораторных (антитела к ВИЧ-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 антитела к вирусу гепатита С,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признаков инфекций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243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олучени</a:t>
            </a: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СЗП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чение 6 часов после заготовк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раживание до -30 °С в течение 1 час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243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Хранение</a:t>
            </a: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СЗП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месяца при температуре менее -30 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месяцев при температуре от -25 °С до -30 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243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Хранение</a:t>
            </a: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СЗП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им хранения СЗП круглосуточно контролируется дежурным персоналом и фиксируется в журнале регистрации температурного режима холодильников не реже 2 раз в сутк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363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от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5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ноябр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я 200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б утверждении «Инструкции по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ю компонентов крови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8d43"/>
                </a:solidFill>
                <a:latin typeface="Arial Black"/>
              </a:rPr>
              <a:t>П Р И Н Ц И П Ы</a:t>
            </a:r>
            <a:br>
              <a:rPr sz="4000"/>
            </a:br>
            <a:r>
              <a:rPr b="1" lang="ru-RU" sz="4000" spc="-1" strike="noStrike">
                <a:solidFill>
                  <a:srgbClr val="f98d43"/>
                </a:solidFill>
                <a:latin typeface="Arial Black"/>
              </a:rPr>
              <a:t>работы службы крови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d3b"/>
                </a:solidFill>
                <a:latin typeface="Arial"/>
              </a:rPr>
              <a:t>Оптимальное использование ресур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d3b"/>
                </a:solidFill>
                <a:latin typeface="Arial"/>
              </a:rPr>
              <a:t>Централизация производства (в т.ч. лаборатор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d3b"/>
                </a:solidFill>
                <a:latin typeface="Arial"/>
              </a:rPr>
              <a:t>Лицензирование организаций и служ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d3b"/>
                </a:solidFill>
                <a:latin typeface="Arial"/>
              </a:rPr>
              <a:t>Гарантия ка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лужба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донорство крови и ее компонентов, производство, транспортировку, хранение и применение компонентов и препаратов крови, клиническое использование технологий, альтернативных аллогенным гемотрансфузи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Египет (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 г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ыло: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госпитальных банков кро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ало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националь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8 окружных и 30 региональных центров кро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 (Египет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отовлен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 кров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 – 25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9 – 50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– 70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ана национальная программа безопасного донорства крови (мотивация, рекрутирован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тбор и отво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 (Египет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дартизация производства и применения компонентов кров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ронная сеть, объединяющая все центры кров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нгрия (в течение 2 ле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о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63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ан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л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региональных центров кр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 местных банка кров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ное обследован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 региональных центр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нада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иональная система управления запасами гемокомпон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доза эритроцитов за 7 дней до окончания срока хранения возвращается из локального госпиталя в региональный центр, где практически наверняка будет выдана в ЛП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на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к эритроцитов по истечению срока годности составляет 0,5 %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(в России – 11 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Централизация службы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нада,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ританская Колумб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млн жителей, 95 госпитале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ьный трансфузионный регист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ниторин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вижен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емокомпон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е за реципиен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обходимости трансфузии – электро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вер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ансфузионного анамн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339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иказ Минздрава России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№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229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от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юн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я 200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единой номенклатуре государственных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униципальных учреждений здравоохранения 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493280"/>
            <a:ext cx="91440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6. Учреждения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ереливания крови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br>
              <a:rPr sz="48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1.6.3. Станция переливания крови</a:t>
            </a:r>
            <a:br>
              <a:rPr sz="42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1.6.4. Центр крови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Регионализац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0" y="2511360"/>
            <a:ext cx="91440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c00"/>
                </a:solidFill>
                <a:latin typeface="Arial Black"/>
              </a:rPr>
              <a:t>Программа развития службы крови субъекта Российской Федерации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письмо Минздрава России от 11.12.2002 №2510/12386-02-32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«О подготовке региональных целевых программ развития донорства и службы крови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1447920"/>
            <a:ext cx="1143000" cy="1218960"/>
          </a:xfrm>
          <a:prstGeom prst="downArrow">
            <a:avLst>
              <a:gd name="adj1" fmla="val 50000"/>
              <a:gd name="adj2" fmla="val 26661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Структура доклада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удалос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не удалос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роект ФЦП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инздрав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инэкономразвити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0" y="6705360"/>
            <a:ext cx="91440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ffffff"/>
              </a:solidFill>
              <a:latin typeface="Arial"/>
              <a:ea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281952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4724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4952880"/>
            <a:ext cx="1447560" cy="533520"/>
          </a:xfrm>
          <a:prstGeom prst="line">
            <a:avLst/>
          </a:prstGeom>
          <a:ln w="76320">
            <a:solidFill>
              <a:srgbClr val="f21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962520" y="4647960"/>
            <a:ext cx="1295280" cy="990360"/>
          </a:xfrm>
          <a:prstGeom prst="line">
            <a:avLst/>
          </a:prstGeom>
          <a:ln w="76320">
            <a:solidFill>
              <a:srgbClr val="f21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281160"/>
            <a:ext cx="8991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облемы Закона РФ от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06.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993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5142-1 «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 донорстве крови и ее компонентов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учитывает стратегические приоритеты государственной инвестиционной политики – ФЦП нецелесообразна (Минф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разграничения предметов ведения и расходных полномочий между уровнями бюджетной системы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281160"/>
            <a:ext cx="8991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облемы Закона РФ от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06.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993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5142-1 «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 донорстве крови и ее компонентов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туральные льготы (оплата проезда, коммунальных услу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ект нового закона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 Р И Н Ц И П 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армония с современностью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ива Европейского Парламента и Совета 2002/98/ЕС от 27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01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,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авливающая стандарты качества и безопасности заготовки, обследования, приготовления, хранения и распределения крови и компонентов крови челове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отмена, а замена привилег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  <p:pic>
        <p:nvPicPr>
          <p:cNvPr id="343" name="lngerd" descr=""/>
          <p:cNvPicPr/>
          <p:nvPr/>
        </p:nvPicPr>
        <p:blipFill>
          <a:blip r:embed="rId4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ект нового закон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инансовая составляющ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дицинская составляющ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lngerd" descr=""/>
          <p:cNvPicPr/>
          <p:nvPr/>
        </p:nvPicPr>
        <p:blipFill>
          <a:blip r:embed="rId3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8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В решение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ризнать нецелесообразным продление срока действия нормативной документации и производство в России препаратов крови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а сух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преципитат сухой (с 01.01.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иног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а антистафилококковая человеческая сух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инокро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преципитат (это компонент крови и для его производства требуется лицензия на медицинскую деятельность по виду 06.0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64040"/>
            <a:ext cx="815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роизводство лекарственных средст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ерийное получение лекарственных средств в соответствии с правилами организации производства и контроля качества лекарственных средств, утвержденными федеральным органом контроля качества лекарственны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06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998 г. N 86-Ф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№ 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 лекарственных средства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, 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1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роизводство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  <a:ea typeface="Arial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компонентов кров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ивидуальн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е получе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понентов крови донора осуществляемое организацией, имеющей лицензию на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оответст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ющий вид медицинск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632160"/>
            <a:ext cx="8610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Включить в отраслевой классификато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01.01.013 Отмытые эритроц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02.02.008 Криопреципит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02.02.009 Плазма криосупернатант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Служба крови Росси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92 + 31 СП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077 + 100 ОП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93 + 100 ЛП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К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87631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В решение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сить МЗ РФ отменить тестирование препаратов крови н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-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-ВГ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го нет в мире (биологический абсурд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302"/>
                </a:solidFill>
                <a:latin typeface="Arial"/>
              </a:rPr>
              <a:t>Проти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Гематологический научный центр РАМ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91332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тменить тестирование препаратов крови н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-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-ВГ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ение производителей тест-систем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91332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Готовые препараты крови тестировать нельз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ицен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г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-РАД Лабора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бботт Лэборатор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обое мн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ческие сист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би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шибка в валидац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но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sA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нтител к вирус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товый препарат (а нужно – вносить модельный вирус в исходное сырь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7" name="s-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сить МЗ РФ дать указание прекратить использование стеклянной тары для заготовки и производства донорской крови и ее компонентов– с 01 июня 2004 г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676520" y="6251400"/>
            <a:ext cx="640080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оссийская ассоциация трансфузиолог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хнологический форум службы кров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оординационный совет служб крови государств – участников СН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урнал «Трансфузиология» - членам РА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Научные учреждения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НИИГи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НИИГП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НЦ РАМ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йт </a:t>
            </a:r>
            <a:r>
              <a:rPr b="1" lang="en-US" sz="7000" spc="-1" strike="noStrike">
                <a:solidFill>
                  <a:srgbClr val="ffffcc"/>
                </a:solidFill>
                <a:latin typeface="Arial"/>
              </a:rPr>
              <a:t>www.transfusion.ru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для доноров, реципиентов и меди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раздел – для членов Р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равоч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cc"/>
                </a:solidFill>
                <a:latin typeface="Arial"/>
              </a:rPr>
              <a:t>Трансфузионная медицина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рудование, материалы, лекарства, нормативные доку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Новые инициатив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плект плака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cc"/>
                </a:solidFill>
                <a:latin typeface="Arial"/>
              </a:rPr>
              <a:t>Пропаганда донорства крови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Arial Black"/>
              </a:rPr>
              <a:t>Спасибо за внимание и совместную работу!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  <p:pic>
        <p:nvPicPr>
          <p:cNvPr id="393" name="lngerd" descr=""/>
          <p:cNvPicPr/>
          <p:nvPr/>
        </p:nvPicPr>
        <p:blipFill>
          <a:blip r:embed="rId2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успехов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395" name="lngerd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8580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Arial Black"/>
              </a:rPr>
              <a:t>Предприятия биопрепаратов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742840"/>
            <a:ext cx="807696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? ?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 работают с донорами и лицензия на  медицинскую деятельность им нуж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lngerd" descr=""/>
          <p:cNvPicPr/>
          <p:nvPr/>
        </p:nvPicPr>
        <p:blipFill>
          <a:blip r:embed="rId1"/>
          <a:stretch/>
        </p:blipFill>
        <p:spPr>
          <a:xfrm>
            <a:off x="8458200" y="6572160"/>
            <a:ext cx="685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07:24:10Z</dcterms:created>
  <dc:creator/>
  <dc:description/>
  <dc:language>en-US</dc:language>
  <cp:lastModifiedBy>Eugene B Zhiburt</cp:lastModifiedBy>
  <dcterms:modified xsi:type="dcterms:W3CDTF">2003-09-12T08:46:04Z</dcterms:modified>
  <cp:revision>26</cp:revision>
  <dc:subject/>
  <dc:title>МИНЗДРАВ РОССИИ  Совершенствование лабораторной диагностики в службе крови</dc:title>
</cp:coreProperties>
</file>